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8547-6029-40F1-9D3F-A8946CA09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1095-79E8-4D9F-BCCF-A20D386E4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04F9-9C9B-44FD-88F2-28C1C8428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B48B-A8D1-49FF-A46F-42CA83DD0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42DE3-7883-48CC-A721-4094516DD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9B646-EB68-474B-81C5-96C1AC60A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12180-DE11-414A-AE4E-F2FDA3AA4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22D7A-CCDC-425A-B158-62D3D84EC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D8F64-15ED-4517-86A0-E2900356E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04034-7C62-47F0-82B1-5D52E8368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879C0-6612-4031-A6D7-722F4191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CE21-CA54-417C-82D7-933ED6339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83A12-05C2-4AD6-AACB-B0D0D4C6C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973D3-1A1D-42DF-BC13-3C088545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E0FDB-AD33-46ED-9F35-AE2F6A843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286DD-0C5F-4F74-961E-666992AA1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8F040-4E97-42C4-B894-73247C696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B2A6-1997-4152-849A-13D90C33F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2FF1-8495-4BCF-A2F5-42912182B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9247-5723-4CE4-A3D3-87B32206E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F78B-0FDF-4622-B8C4-3FD4F9186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9F16-F2D4-4291-8B4E-1B89097A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2392-0262-4181-B647-DD8F5C7C2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3591-77E9-4374-8695-1A7D7D04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31DE2-C904-4958-B70F-DB1C923010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earth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earth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2FDB7-3295-4766-A7AB-F5A7E8174D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upload.wikimedia.org/wikipedia/commons/c/cb/Castor_canadensis.jpg" TargetMode="Externa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upload.wikimedia.org/wikipedia/commons/5/54/Beaver-Szmurlo.jpg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upload.wikimedia.org/wikipedia/commons/5/54/Beaver-Szmurlo.jpg" TargetMode="External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Times New Roman"/>
              </a:rPr>
              <a:t>Chapter Six: The Duel for North America (1608-176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werPoint Slides for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 American Pageant, 12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ed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b5e0e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5e0e3"/>
                </a:solidFill>
                <a:latin typeface="Tahoma"/>
              </a:rPr>
              <a:t>Constructed by Mr. Frec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France wants colonies too…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608 – Quebec founded on St. Lawrence River (Samuel de Champlai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uron vs. Iroquo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lony called “New France” but few settlers (60,000 by 1750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tholic Colony only (Jesuit pries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ert de La Salle &amp; the Mississippi 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ablishes Louisiana colony to protect tra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Economic Colony, not settlemen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28240" y="22096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r traders mostly (coureurs de bo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ed with native tribes against their enem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isease and weapons ahead of English sett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0" name="800px-Castor_canadensis" descr="Image:Castor canadensis.jpg">
            <a:hlinkClick r:id="rId4"/>
          </p:cNvPr>
          <p:cNvPicPr/>
          <p:nvPr/>
        </p:nvPicPr>
        <p:blipFill>
          <a:blip r:embed="rId5"/>
          <a:srcRect l="0" t="0" r="2943" b="0"/>
          <a:stretch/>
        </p:blipFill>
        <p:spPr>
          <a:xfrm>
            <a:off x="3962520" y="2209680"/>
            <a:ext cx="5029200" cy="388620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3809880" y="1905120"/>
            <a:ext cx="2286000" cy="990360"/>
          </a:xfrm>
          <a:prstGeom prst="wedgeRoundRectCallout">
            <a:avLst>
              <a:gd name="adj1" fmla="val -23611"/>
              <a:gd name="adj2" fmla="val 105768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fir makes nice hat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ash of Empire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6320" y="1904760"/>
            <a:ext cx="9067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ing William’s War (1689-1697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r of the League of Augsbu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en Anne’s War (1702-1713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r of Spanish Succession (Treaty of Utrech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gland gets Nova Scotia and Hudson Bay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ing George’s War (1744-1748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r of Austrian Succession / War of Jenkin’s E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onial victories given back at peace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391520" cy="6858000"/>
          </a:xfrm>
          <a:prstGeom prst="rect">
            <a:avLst/>
          </a:prstGeom>
          <a:ln w="9360">
            <a:solidFill>
              <a:srgbClr val="cc6600"/>
            </a:solidFill>
            <a:miter/>
          </a:ln>
        </p:spPr>
      </p:pic>
      <p:pic>
        <p:nvPicPr>
          <p:cNvPr id="335" name="800px-Beaver-Szmurlo" descr="Image:Beaver-Szmurlo.jpg">
            <a:hlinkClick r:id="rId2"/>
          </p:cNvPr>
          <p:cNvPicPr/>
          <p:nvPr/>
        </p:nvPicPr>
        <p:blipFill>
          <a:blip r:embed="rId3"/>
          <a:srcRect l="21668" t="0" r="0" b="0"/>
          <a:stretch/>
        </p:blipFill>
        <p:spPr>
          <a:xfrm>
            <a:off x="7162920" y="152280"/>
            <a:ext cx="1981080" cy="1681200"/>
          </a:xfrm>
          <a:prstGeom prst="rect">
            <a:avLst/>
          </a:prstGeom>
          <a:ln w="0">
            <a:noFill/>
          </a:ln>
        </p:spPr>
      </p:pic>
      <p:pic>
        <p:nvPicPr>
          <p:cNvPr id="336" name="800px-Beaver-Szmurlo" descr="Image:Beaver-Szmurlo.jpg">
            <a:hlinkClick r:id="rId4"/>
          </p:cNvPr>
          <p:cNvPicPr/>
          <p:nvPr/>
        </p:nvPicPr>
        <p:blipFill>
          <a:blip r:embed="rId5"/>
          <a:srcRect l="21668" t="0" r="0" b="0"/>
          <a:stretch/>
        </p:blipFill>
        <p:spPr>
          <a:xfrm>
            <a:off x="7162920" y="3500280"/>
            <a:ext cx="1981080" cy="1681200"/>
          </a:xfrm>
          <a:prstGeom prst="rect">
            <a:avLst/>
          </a:prstGeom>
          <a:ln w="0">
            <a:noFill/>
          </a:ln>
        </p:spPr>
      </p:pic>
      <p:pic>
        <p:nvPicPr>
          <p:cNvPr id="337" name="france-flag" descr=""/>
          <p:cNvPicPr/>
          <p:nvPr/>
        </p:nvPicPr>
        <p:blipFill>
          <a:blip r:embed="rId6"/>
          <a:stretch/>
        </p:blipFill>
        <p:spPr>
          <a:xfrm>
            <a:off x="7391520" y="1981080"/>
            <a:ext cx="1752480" cy="1168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338" name="france-flag" descr=""/>
          <p:cNvPicPr/>
          <p:nvPr/>
        </p:nvPicPr>
        <p:blipFill>
          <a:blip r:embed="rId7"/>
          <a:stretch/>
        </p:blipFill>
        <p:spPr>
          <a:xfrm>
            <a:off x="7391520" y="5460840"/>
            <a:ext cx="1752480" cy="1168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1371600" y="-304920"/>
            <a:ext cx="69343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The French and Indian War</a:t>
            </a: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 (1754-176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219320" y="1600200"/>
            <a:ext cx="7315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even Years War in Eur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1157400" y="2362320"/>
          <a:ext cx="2728800" cy="386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7400" y="2362320"/>
                    <a:ext cx="2728800" cy="386712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43" name=""/>
          <p:cNvGraphicFramePr/>
          <p:nvPr/>
        </p:nvGraphicFramePr>
        <p:xfrm>
          <a:off x="5410080" y="2362320"/>
          <a:ext cx="2816280" cy="3838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0080" y="2362320"/>
                    <a:ext cx="2816280" cy="383832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45" name=""/>
          <p:cNvSpPr/>
          <p:nvPr/>
        </p:nvSpPr>
        <p:spPr>
          <a:xfrm>
            <a:off x="4343400" y="3886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1T13:12:06Z</dcterms:created>
  <dc:creator>Authorized User</dc:creator>
  <dc:description/>
  <dc:language>en-US</dc:language>
  <cp:lastModifiedBy>Brent J. Freccia</cp:lastModifiedBy>
  <dcterms:modified xsi:type="dcterms:W3CDTF">2007-09-30T16:29:53Z</dcterms:modified>
  <cp:revision>2</cp:revision>
  <dc:subject/>
  <dc:title>PowerPoint Presentation</dc:title>
</cp:coreProperties>
</file>